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776-C2B0-4BF1-9FCD-E8A5F3F4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FEE-9096-4FDA-882E-453D075B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E80-F16D-4BB1-BE1D-62BD78F3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191-C91E-4D2B-9146-AC89D1C6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76B-BEEB-4E76-946C-4292E0BE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EA6-F238-42B9-885A-8FDA2D66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0EA-CCF2-437F-987D-41BBC5B2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B4E-7A17-4931-B03D-F5F5BD66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483-86ED-4441-845A-AB1092AF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ACD-6EC5-44D2-9D15-CF49D872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7D6-7CD3-4171-8362-C9F14AF2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025-5FE5-49A4-B3B7-B6F74D7C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7694-8BC3-484A-B8E9-EFB6DCA6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6thgradetms.pbworks.com/Literary+Terms" TargetMode="Externa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message/list/home" TargetMode="Externa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60&apos;s-+MB,+JH,+BR,+and+JR" TargetMode="Externa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" TargetMode="Externa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0 Best Things We’ve Done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AGT Februar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spearea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a play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pbworks.com/Literary+Ter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Journey+Through+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Civil-Rights-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Poetry-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274680"/>
            <a:ext cx="7543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ace your giftedness. Ask question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_botkin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_szakasits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sail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, not your ki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ing go of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e the cupcake before you add the sprinkl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problem sol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discussion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gnant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or photo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book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iki discussion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reading extra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message/list/ho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an B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stead of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7621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mspcs.sharpschool.com/blog/One.aspx?portalId=5950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research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with research for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60's-+MB,+JH,+BR,+and+J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for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or investigativ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Servi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I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10 hours 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American Poet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and persuas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oet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36:22Z</dcterms:created>
  <dc:creator>admin</dc:creator>
  <dc:description/>
  <dc:language>en-US</dc:language>
  <cp:lastModifiedBy>admin</cp:lastModifiedBy>
  <dcterms:modified xsi:type="dcterms:W3CDTF">2010-02-11T03:31:42Z</dcterms:modified>
  <cp:revision>6</cp:revision>
  <dc:subject/>
  <dc:title>The 10 Best Things We’ve Done This Year</dc:title>
</cp:coreProperties>
</file>