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7EE-31B5-495C-81BC-CC2FEE88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87E-0117-401B-8041-016BD948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FC6-9FCE-40BC-A210-D234C4E1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476-351E-4DE5-9762-C7BA9903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C3B-6000-4506-AF6D-47297F53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304-E94C-47B1-AC09-7CE5FC93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26E-F7CA-443A-98A7-3BB5A566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A0D-96F5-4AB7-8768-E12974E7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04D-7D37-42F3-9092-4FB79753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2C5-74B6-481D-8FD5-4F8994C2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3EF-F43D-48EC-A2DC-9DFD1D7B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570-4A21-4BFB-80E4-3A66572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900-9057-4F5E-A929-F6283E1D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AGT Febr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02-11T03:31:42Z</dcterms:modified>
  <cp:revision>6</cp:revision>
  <dc:subject/>
  <dc:title>The 10 Best Things We’ve Done This Year</dc:title>
</cp:coreProperties>
</file>