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D99B-CF65-4637-B359-296D89C5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A717-1C3E-46A7-9739-1EF4EEE8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0B6F-EE6E-44D5-9933-9505C8849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B20D-1546-4CE3-BE88-1361E4C7C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B07F-F8E3-4B49-AF7F-4A4DA297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DD65-B130-44D3-BFD2-89170208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AEB3-1E8F-4C1F-85FA-258098A5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8953-4569-4F9D-AE08-C75C89A0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9EB5-61B4-4257-8055-E5032496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B1A6-7F55-468C-9A77-04CB99DE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5D97-9E3E-4B0B-9379-18488F19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2347-5E80-4DE6-84A1-931956E3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F2A6-7C0F-4A4A-B070-1AB19D37B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6thgradetms.pbworks.com/Literary+Terms" TargetMode="External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6thgradetms.wikispaces.com/message/list/home" TargetMode="Externa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6thgradetms.wikispaces.com/60&apos;s-+MB,+JH,+BR,+and+JR" TargetMode="External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6thgradetms.wikispaces.com/" TargetMode="External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10 Best Things We’ve Done This Y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eka Bot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ela Szaka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AGT February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61722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10bestthings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kespe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for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kespearean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meo and Jul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m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of figurative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 a playw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ry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pbworks.com/Literary+Term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urney Through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wikispaces.com/Journey+Through+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vil Rights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wikispaces.com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pbworks.com/Civil-Rights-Mov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etry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pbworks.com/Poetry-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274680"/>
            <a:ext cx="75438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ace your giftedness. Ask question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eka Bot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eka_botkin@pender.k12.nc.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ela Szaka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ela_szakasits@pender.k12.nc.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62485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10bestthings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sail Middl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uster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v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kids, not your kid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ing go of contro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ke the cupcake before you add the sprinkl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 problem solv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ess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for discussion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 do discussion semin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gnant photo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s for photoe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line book discu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iki discussion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er reading extra cr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wikispaces.com/message/list/hom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Plan B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gs instead of jou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7621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tmspcs.sharpschool.com/blog/One.aspx?portalId=59507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ey Through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an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phr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-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a research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 with research for dec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wikispaces.com/60's-+MB,+JH,+BR,+and+J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gs for dec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Rights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ture Cir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 do literature cir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n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 for investigativ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wikispaces.com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ty Servic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It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-10 hours in the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l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st American Poet Con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aganda and persuasiv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poetry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po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f po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8:36:22Z</dcterms:created>
  <dc:creator>admin</dc:creator>
  <dc:description/>
  <dc:language>en-US</dc:language>
  <cp:lastModifiedBy>admin</cp:lastModifiedBy>
  <dcterms:modified xsi:type="dcterms:W3CDTF">2010-02-11T03:31:42Z</dcterms:modified>
  <cp:revision>6</cp:revision>
  <dc:subject/>
  <dc:title>The 10 Best Things We’ve Done This Year</dc:title>
</cp:coreProperties>
</file>