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3FD-5431-44A9-B346-D1B312B1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FAC-3A9D-46B9-9772-B81B56AA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1F6-223C-4F92-B9DF-67AF80B9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C89-C024-4E4C-B008-52A918FA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DBF-C030-4D74-BFE0-52C6B13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AA5-E53C-4FCC-9763-597C4BC9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AEA-8041-4DCF-9050-033EA598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7CF-59A8-4D3E-905B-87E2FD9C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6E4-515A-47FB-948E-398684B9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606-C03F-45C4-B2C6-0A015573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1B8-B908-467D-9609-15780CDC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E5B-ED4C-4035-9BD5-5CC8A2C5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610D-7104-4625-B7C3-ACCF6081F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AGT Febr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02-11T03:31:42Z</dcterms:modified>
  <cp:revision>6</cp:revision>
  <dc:subject/>
  <dc:title>The 10 Best Things We’ve Done This Year</dc:title>
</cp:coreProperties>
</file>