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C64-3ABE-492D-9C1D-A4298062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F97-3848-48CA-9368-BE177356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04F-BD4B-4126-A79C-CC1507E3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369-E7B1-42C7-B9BB-1B1236F2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9D4-6788-4AFB-90B3-830A0351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393-7EF9-4D66-A424-3BB56ED1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346-E902-428A-A80A-3E855640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33F-F857-42B9-A8A7-0485675A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80E-81EF-4A14-803F-58D801B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28D-C06A-4BEF-90BB-5C073E76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A30-0F55-49AD-A6DF-81E96F5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2E7-31F7-4E32-BC3F-AD0A9FE7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E836-E200-4639-ACBA-68DFDA3C3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GC Nov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10-04T12:00:01Z</dcterms:modified>
  <cp:revision>7</cp:revision>
  <dc:subject/>
  <dc:title>The 10 Best Things We’ve Done This Year</dc:title>
</cp:coreProperties>
</file>