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8EF-CFD9-42C6-8FA2-9387DEA3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22F-0443-46BA-BEC6-79BA4D04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64B-B18A-4E3E-9897-02B8582E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4FD-4761-46D1-B854-59698E87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361-1DFC-4732-B2CB-77AA6E3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B14-0C6E-49A3-B5BD-1017C35A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086-6B8C-4794-9D1F-62F0DEFB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C28-51A3-4B4F-B358-A25223D8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7ED-101C-4176-B3B9-731DA103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1A5-5252-43F8-8EE7-6F544C8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1A7-755A-43D8-859C-13F09B95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A2C-B5A7-4978-96BD-D098AFBF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4603-02A8-4FF3-B995-E55F5DAC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C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10-04T12:00:01Z</dcterms:modified>
  <cp:revision>7</cp:revision>
  <dc:subject/>
  <dc:title>The 10 Best Things We’ve Done This Year</dc:title>
</cp:coreProperties>
</file>