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AE3-7577-4E24-A3A2-365BD917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2D6-9D19-4A70-B99E-BF3A2E9F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C9C-5D3B-42D1-B87D-78D6C61A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E3D-F719-4A40-98AC-2B6EF4EF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1E7-0E63-4620-AA6E-6AC567A7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BB1-DBD8-445A-A1EB-3EFE0993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444-E7FA-4A2D-88AA-221663EB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3DF-192B-48C2-8495-EE82DAB5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C4C-4DA4-4AEF-848B-296A8695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359-3F23-4D7E-AF65-00420861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9F4-AA04-4E95-A2AB-865802BF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32A-2D1B-4CF2-9391-2C05B724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B194-0BE8-4AF0-AD80-A48C35AB6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6thgradetms.pbworks.com/Literary+Terms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message/list/home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60&apos;s-+MB,+JH,+BR,+and+JR" TargetMode="Externa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6thgradetms.wikispaces.com/" TargetMode="Externa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0 Best Things We’ve Done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AGT Febr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spearea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a play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pbworks.com/Literary+Ter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Journey+Through+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Civil-Rights-Mo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6thgradetms.pbworks.com/Poetry-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74680"/>
            <a:ext cx="7543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ace your giftedness. Ask question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 Bot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ka_botkin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 Szaka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a_szakasits@pender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10bestthing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sail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kids, not your ki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ing go of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e the cupcake before you add the sprinkl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problem sol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for discussion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discussion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gnant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or photo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book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iki discussion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reading extra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message/list/ho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an B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stead of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7621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mspcs.sharpschool.com/blog/One.aspx?portalId=5950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Throug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-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research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with research for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60's-+MB,+JH,+BR,+and+J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for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do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or investigativ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6thgradetms.wikispaces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Serv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I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10 hours 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American Poet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and persuas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oet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36:22Z</dcterms:created>
  <dc:creator>admin</dc:creator>
  <dc:description/>
  <dc:language>en-US</dc:language>
  <cp:lastModifiedBy>admin</cp:lastModifiedBy>
  <dcterms:modified xsi:type="dcterms:W3CDTF">2010-02-11T03:31:42Z</dcterms:modified>
  <cp:revision>6</cp:revision>
  <dc:subject/>
  <dc:title>The 10 Best Things We’ve Done This Year</dc:title>
</cp:coreProperties>
</file>