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F7D-DEF8-4481-A2B2-0D098732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571-62DC-4019-B4CE-371209B8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A651-0634-4101-BD17-941C7AA5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335E-4BCC-4CCC-BD8A-4279CD39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E44-0BB1-47C4-97D5-23D7428F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5A2-5E45-40BB-98A1-5480CE60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CD7-6659-4893-8888-3E070D68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44D-A911-41E5-A6CB-21ECE476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EDF-40BB-4E21-BC33-3D32B802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C4AF-5374-4992-AA2D-0F915D9B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2DC-5279-470C-8622-FE74ABC4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9E9-68C0-4893-9060-873E6CA2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1C00-248E-4A07-9825-73980D78A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6thgradetms.pbworks.com/Literary+Terms" TargetMode="Externa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message/list/home" TargetMode="Externa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60&apos;s-+MB,+JH,+BR,+and+JR" TargetMode="Externa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" TargetMode="Externa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0 Best Things We’ve Done This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GC Novemb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kespearean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meo and Jul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 figura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a playw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pbworks.com/Literary+Term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Journey+Through+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Civil-Rights-Mov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Poetry-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274680"/>
            <a:ext cx="75438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ace your giftedness. Ask question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_botkin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_szakasits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6248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sail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kids, not your ki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ing go of contro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ke the cupcake before you add the sprinkl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 problem solv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ss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discussion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gnant photo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s for photoe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book discu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iki discussion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reading extra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message/list/hom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lan B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gs instead of jou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7621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mspcs.sharpschool.com/blog/One.aspx?portalId=59507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a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-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research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 with research for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60's-+MB,+JH,+BR,+and+J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s for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literature cir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for investigativ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Servic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It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-10 hours in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st American Poet C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nda and persuasiv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poetry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36:22Z</dcterms:created>
  <dc:creator>admin</dc:creator>
  <dc:description/>
  <dc:language>en-US</dc:language>
  <cp:lastModifiedBy>admin</cp:lastModifiedBy>
  <dcterms:modified xsi:type="dcterms:W3CDTF">2010-10-04T12:00:01Z</dcterms:modified>
  <cp:revision>7</cp:revision>
  <dc:subject/>
  <dc:title>The 10 Best Things We’ve Done This Year</dc:title>
</cp:coreProperties>
</file>