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A10-2E4D-47FA-B257-89F711B8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3A7-0CD9-4923-BFFE-8CF9445A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2F6-6A59-44DE-88B2-2954B4C6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F9D-CEE1-458A-B302-801EC182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A7E-4867-48E8-825C-A75F2AC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8A4-A212-410B-BECB-EDC5D808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40A-C135-47EA-9C8E-9C5A6E21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A40-E3CC-4F51-A457-DFF9161B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217-7D3D-4FCB-95E8-DB8959AD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D9C-B5A2-40AC-9124-DACF423F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78D-FCED-4BF9-B4AB-6827568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8E7-1B57-4B63-97D3-0BDCF937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5D2A-7387-4001-8B32-B907AB06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C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10-04T12:00:01Z</dcterms:modified>
  <cp:revision>7</cp:revision>
  <dc:subject/>
  <dc:title>The 10 Best Things We’ve Done This Year</dc:title>
</cp:coreProperties>
</file>