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41C3-D426-42C4-B9BB-9B2DBA5F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DB4A-7A40-42A6-9095-1DED394D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C2A-4B62-43B8-9405-C495F266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3335-7D83-44E4-869E-2B5406CB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DFA7-B3BA-44DC-AF65-83869D86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8AF3-3AE7-4FB8-92B9-E040A37D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9DC5-2395-4D69-9B14-2AAC4DC0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4FE-36B0-45EC-A1B6-5A364EFF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B9D0-F69B-43B6-94D0-EF4EE1BC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0DBC-A6B6-4057-9071-F5CACC7A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6301-60EC-4983-9407-8E0E0CD3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8A24-C3ED-4F45-B0C9-3C676CC4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4C0A-5926-48E5-906F-A62743D82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428840"/>
            <a:ext cx="91440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4a3190"/>
                </a:solidFill>
                <a:latin typeface="Verdana"/>
              </a:rPr>
              <a:t>Paraphrasing Practi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90600" y="5181480"/>
            <a:ext cx="47628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The automobile is chartreu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676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Preparations for the ceremony were elabor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The educator removed the unruly student from the environ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Several diffident individuals banded together to comprise a consortiu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19810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The adolescent maneuvered the bi-wheeled vehicle undamag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9810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In the metropolis the recreational area was dilapida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17:53:16Z</dcterms:created>
  <dc:creator>tengrrl</dc:creator>
  <dc:description/>
  <dc:language>en-US</dc:language>
  <cp:lastModifiedBy>tengrrl</cp:lastModifiedBy>
  <dcterms:modified xsi:type="dcterms:W3CDTF">2007-03-30T18:20:40Z</dcterms:modified>
  <cp:revision>5</cp:revision>
  <dc:subject/>
  <dc:title>Paraphrasing Practice</dc:title>
</cp:coreProperties>
</file>