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6FC0-58BD-4F48-B3F9-BE17D1C9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89D8-1770-4CE2-9207-8E58FE7B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77C9-00E4-4215-A953-4C013483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79C-797A-4B74-A73B-47405D8D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8E6E-845B-4DE5-8D56-4A4D17FA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9AC1-320C-4FC3-8843-E336D113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E4A2-64EA-413B-9688-2F7BC6C8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0F43-9DC4-4B88-9F26-73A48925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C4B4-D079-4361-89A5-9BE2B1ED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212-FE7B-42CF-8009-C517B18A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7728-678A-4FF0-9344-B337CEB0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FAC7-7ACA-4B11-BEFA-DA2A4811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A6C9-73BC-456B-9FF0-76C81FF62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28840"/>
            <a:ext cx="91440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4a3190"/>
                </a:solidFill>
                <a:latin typeface="Verdana"/>
              </a:rPr>
              <a:t>Paraphrasing Practi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90600" y="5181480"/>
            <a:ext cx="47628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The automobile is chartreu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Preparations for the ceremony were elabor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The educator removed the unruly student from the environ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Several diffident individuals banded together to comprise a consortiu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9810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The adolescent maneuvered the bi-wheeled vehicle undamag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9810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In the metropolis the recreational area was dilapid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17:53:16Z</dcterms:created>
  <dc:creator>tengrrl</dc:creator>
  <dc:description/>
  <dc:language>en-US</dc:language>
  <cp:lastModifiedBy>tengrrl</cp:lastModifiedBy>
  <dcterms:modified xsi:type="dcterms:W3CDTF">2007-03-30T18:20:40Z</dcterms:modified>
  <cp:revision>5</cp:revision>
  <dc:subject/>
  <dc:title>Paraphrasing Practice</dc:title>
</cp:coreProperties>
</file>