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C51-563F-4C7A-A6DA-27BC7CBF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4AD-45FD-485F-A986-E12A47E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722-B679-4DA5-90AA-58BD2008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9E8-7F24-4266-A1E0-554EF2D9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884-0052-44C7-8E78-FDE9D60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72C-E93D-46DB-8181-BD7EDCE4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D8A-2FF2-4124-81EB-FB38AB53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67E-17CB-4B1E-81D9-5A486D0E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757-4A47-43C8-A466-55FEAE6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7F8-CBAB-498F-84F2-AFB280A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120-2346-4957-9372-5062955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227-128C-411D-BF95-7BD5650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290-F3B8-48D8-A91A-464C5688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a3190"/>
                </a:solidFill>
                <a:latin typeface="Verdana"/>
              </a:rPr>
              <a:t>Paraphrasing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0600" y="5181480"/>
            <a:ext cx="4762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utomobile is chartre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Preparations for the ceremony were elabo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educator removed the unruly student from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Several diffident individuals banded together to comprise a consort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dolescent maneuvered the bi-wheeled vehicle undama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In the metropolis the recreational area was dilapid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tengrrl</dc:creator>
  <dc:description/>
  <dc:language>en-US</dc:language>
  <cp:lastModifiedBy>tengrrl</cp:lastModifiedBy>
  <dcterms:modified xsi:type="dcterms:W3CDTF">2007-03-30T18:20:40Z</dcterms:modified>
  <cp:revision>5</cp:revision>
  <dc:subject/>
  <dc:title>Paraphrasing Practice</dc:title>
</cp:coreProperties>
</file>