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C019-8688-40E4-A158-64420E54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AFE7-FB0E-40DE-821C-D621FCD3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0F7F-3069-4070-B87D-2516E2C6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21BF-D073-4306-933E-9F706F48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EC55-13E3-4048-B94A-05688717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CF32-E3F0-427D-8232-52D2F200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9E32-7FD4-4391-8FB6-FAFD8435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0763-271E-4ACC-B34D-65B27186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727D-B5F8-4C42-AFAB-8FC4BC07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03C7-07C5-4098-AA6A-6E65C14E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F189-CA34-4E0C-9108-A3F2B7A7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2BF8-1CD8-46CC-B0AB-6859C9C4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281D-57C9-4022-BACD-DA2D009BF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428840"/>
            <a:ext cx="91440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4a3190"/>
                </a:solidFill>
                <a:latin typeface="Verdana"/>
              </a:rPr>
              <a:t>Paraphrasing Practi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90600" y="5181480"/>
            <a:ext cx="47628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The automobile is chartreu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676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Preparations for the ceremony were elabor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The educator removed the unruly student from the environ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Several diffident individuals banded together to comprise a consortiu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19810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The adolescent maneuvered the bi-wheeled vehicle undamag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9810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In the metropolis the recreational area was dilapida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17:53:16Z</dcterms:created>
  <dc:creator>tengrrl</dc:creator>
  <dc:description/>
  <dc:language>en-US</dc:language>
  <cp:lastModifiedBy>tengrrl</cp:lastModifiedBy>
  <dcterms:modified xsi:type="dcterms:W3CDTF">2007-03-30T18:20:40Z</dcterms:modified>
  <cp:revision>5</cp:revision>
  <dc:subject/>
  <dc:title>Paraphrasing Practice</dc:title>
</cp:coreProperties>
</file>