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09C3-7DE2-47EE-BBC7-90507F226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ument is the only one based on using evidence to discover the tru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C7B8-C27E-43ED-AD89-85D2176F6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1B48-F7FA-4F6F-99CA-2F6A9CB1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5DD4-924B-4122-B625-BDFE3229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18BA-CCC8-48D8-8F80-9C0AD019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1381-36FD-412A-B022-5B20FDD9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380-0618-4777-A753-1804EFA1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8734-BEB2-46B1-A75B-72C671A8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D0AF-A430-4002-8E91-A9160744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C92-2D98-4EE0-814F-AF77E81B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0CED-43C0-40F8-B96F-E1A6C24B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0464-FC2D-4E12-85C5-C058CF34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848B-C6E4-4629-A93E-C036C9DD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53F3-65F8-4860-81B6-727247AD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82DC-8237-4156-9914-1EF3D1F4E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bskids.org/dontbuyit/advertisingtricks/whatsinanad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9tMMFja-Fw" TargetMode="External"/><Relationship Id="rId2" Type="http://schemas.openxmlformats.org/officeDocument/2006/relationships/hyperlink" Target="http://www.youtube.com/watch?v=79tMMFja-Fw" TargetMode="External"/><Relationship Id="rId3" Type="http://schemas.openxmlformats.org/officeDocument/2006/relationships/hyperlink" Target="http://www.youtube.com/watch?v=xl0x3LlWIig" TargetMode="External"/><Relationship Id="rId4" Type="http://schemas.openxmlformats.org/officeDocument/2006/relationships/hyperlink" Target="http://www.youtube.com/watch?v=xl0x3LlWIig" TargetMode="External"/><Relationship Id="rId5" Type="http://schemas.openxmlformats.org/officeDocument/2006/relationships/hyperlink" Target="http://www.youtube.com/watch?v=P82iJ8G8qhw" TargetMode="External"/><Relationship Id="rId6" Type="http://schemas.openxmlformats.org/officeDocument/2006/relationships/hyperlink" Target="http://www.youtube.com/watch?v=P82iJ8G8qhw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rcials, propaganda, and persua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s. Botkin’s Cor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 your target audienc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es or fem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of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background or experi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ish these jingle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st part of waking up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your cu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she's born with it. Maybe it'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me a break. Give me a break. Break me off a piece of th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ould you do for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a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your breath long lasting freshnes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advertis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purpose of a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are they effe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bskids.org/dontbuyit/advertisingtricks/whatsinanad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88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paga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suades the audience to adopt a particular position or belief through emotional responses or belief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y distort reality or “evidence” to make it believabl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sua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vinces the audience to believe a particular point of view using personal, emotional, or moral appe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lends facts and emotion so it relies on opin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gu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suades the audience to accept the truth through reasoning and evid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s evidence to discover the tru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by Kruffy"/>
              </a:rPr>
              <a:t>Propaganda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Rectangle 3" descr=""/>
          <p:cNvPicPr/>
          <p:nvPr/>
        </p:nvPicPr>
        <p:blipFill>
          <a:blip r:embed="rId1"/>
          <a:stretch/>
        </p:blipFill>
        <p:spPr>
          <a:xfrm>
            <a:off x="19080" y="1116000"/>
            <a:ext cx="4303800" cy="1133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5410080" y="2895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okewood"/>
              </a:rPr>
              <a:t>Euphemis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057400" y="24382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eurochrome"/>
              </a:rPr>
              <a:t>Fe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838080" y="51814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Glittering General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5791320" y="563868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roobie"/>
              </a:rPr>
              <a:t>Bad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5562720" y="15238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in Fol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5638680" y="411480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iolex Girls"/>
              </a:rPr>
              <a:t>Testimon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304920" y="3886200"/>
            <a:ext cx="281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ck"/>
              </a:rPr>
              <a:t>Transf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4038480" y="3429000"/>
            <a:ext cx="9144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n you spot the propaganda techniques used in these commercial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v=79tMMFja-F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youtube.com/watch?v=xl0x3LlWIi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youtube.com/watch?v=P82iJ8G8qh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MDUQW8LUMs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jhOqikF9c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progressive.com/commercials/progressive-commercials.asp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 your task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one minute commercial that informs the audience about your group’s poet and persuades them to vote for him/her as the most influential poet of the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your argument (based on the tru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persua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es, you will be biased, but you cannot give false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01:37:14Z</dcterms:created>
  <dc:creator> </dc:creator>
  <dc:description/>
  <dc:language>en-US</dc:language>
  <cp:lastModifiedBy> </cp:lastModifiedBy>
  <dcterms:modified xsi:type="dcterms:W3CDTF">2010-02-10T11:39:41Z</dcterms:modified>
  <cp:revision>13</cp:revision>
  <dc:subject/>
  <dc:title>Commercials, propaganda, and persuasion</dc:title>
</cp:coreProperties>
</file>