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857D-921D-4637-B106-29BB3A70E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ument is the only one based on using evidence to discover the tru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DD54-F351-4520-82D5-FC403F2F6C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D0B0-C6F3-432E-BF28-77631EFA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6BEE-3F4E-406D-9036-462F9397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6C2C-19B0-4312-931F-D38E1E28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7EA2-C143-4C7C-A6C1-C14FC0BD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FC61-4166-407D-B996-9E201F73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8313-9624-42BF-9FCA-390E8B1D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F874-98E6-4881-B4AC-3DE4C995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768D-2E7D-40F2-A021-06B4D07F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48E1-2D81-4823-A3D4-9C7FFCD4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9BEE-F6AD-4BD9-8EEC-4810F8AA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648A-76AB-4B0C-B17C-8EDB8B08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1DB9-B111-4A23-BC70-F105BE59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649D-F7B0-42C4-870E-50AD1ED86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bskids.org/dontbuyit/advertisingtricks/whatsinanad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9tMMFja-Fw" TargetMode="External"/><Relationship Id="rId2" Type="http://schemas.openxmlformats.org/officeDocument/2006/relationships/hyperlink" Target="http://www.youtube.com/watch?v=79tMMFja-Fw" TargetMode="External"/><Relationship Id="rId3" Type="http://schemas.openxmlformats.org/officeDocument/2006/relationships/hyperlink" Target="http://www.youtube.com/watch?v=xl0x3LlWIig" TargetMode="External"/><Relationship Id="rId4" Type="http://schemas.openxmlformats.org/officeDocument/2006/relationships/hyperlink" Target="http://www.youtube.com/watch?v=xl0x3LlWIig" TargetMode="External"/><Relationship Id="rId5" Type="http://schemas.openxmlformats.org/officeDocument/2006/relationships/hyperlink" Target="http://www.youtube.com/watch?v=P82iJ8G8qhw" TargetMode="External"/><Relationship Id="rId6" Type="http://schemas.openxmlformats.org/officeDocument/2006/relationships/hyperlink" Target="http://www.youtube.com/watch?v=P82iJ8G8qhw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rcials, propaganda, and persua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s. Botkin’s Cor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ider your target audience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es or fem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of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or background or experi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ish these jingles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est part of waking up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your cu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be she's born with it. Maybe it'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me a break. Give me a break. Break me off a piece of tha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ould you do for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a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your breath long lasting freshness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advertis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purpose of a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are they effect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bskids.org/dontbuyit/advertisingtricks/whatsinanad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8088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paga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suades the audience to adopt a particular position or belief through emotional responses or belief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y distort reality or “evidence” to make it believabl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rsua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vinces the audience to believe a particular point of view using personal, emotional, or moral appe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lends facts and emotion so it relies on opin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gu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suades the audience to accept the truth through reasoning and evid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s evidence to discover the tru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by Kruffy"/>
              </a:rPr>
              <a:t>Propaganda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Rectangle 3" descr=""/>
          <p:cNvPicPr/>
          <p:nvPr/>
        </p:nvPicPr>
        <p:blipFill>
          <a:blip r:embed="rId1"/>
          <a:stretch/>
        </p:blipFill>
        <p:spPr>
          <a:xfrm>
            <a:off x="19080" y="1116000"/>
            <a:ext cx="4303800" cy="1133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5410080" y="28954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okewood"/>
              </a:rPr>
              <a:t>Euphemis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057400" y="24382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Neurochrome"/>
              </a:rPr>
              <a:t>Fea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838080" y="518148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Glittering General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5791320" y="563868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roobie"/>
              </a:rPr>
              <a:t>Bad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5562720" y="15238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in Fol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5638680" y="411480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iolex Girls"/>
              </a:rPr>
              <a:t>Testimon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304920" y="3886200"/>
            <a:ext cx="281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ck"/>
              </a:rPr>
              <a:t>Transf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4038480" y="3429000"/>
            <a:ext cx="9144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n you spot the propaganda techniques used in these commercial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youtube.com/watch?v=79tMMFja-F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youtube.com/watch?v=xl0x3LlWIi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youtube.com/watch?v=P82iJ8G8qh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MDUQW8LUMs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jhOqikF9c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progressive.com/commercials/progressive-commercials.asp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ider your task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one minute commercial that informs the audience about your group’s poet and persuades them to vote for him/her as the most influential poet of the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your argument (based on the tru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persuas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es, you will be biased, but you cannot give false ev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01:37:14Z</dcterms:created>
  <dc:creator> </dc:creator>
  <dc:description/>
  <dc:language>en-US</dc:language>
  <cp:lastModifiedBy> </cp:lastModifiedBy>
  <dcterms:modified xsi:type="dcterms:W3CDTF">2010-02-10T11:39:41Z</dcterms:modified>
  <cp:revision>13</cp:revision>
  <dc:subject/>
  <dc:title>Commercials, propaganda, and persuasion</dc:title>
</cp:coreProperties>
</file>