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1EE63-DDDE-493E-96C0-12117E8074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gument is the only one based on using evidence to discover the truth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135EA-843E-4037-80CF-D342C75B0C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DC0C-0BF0-40A0-AEC8-4BBCD3CAA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84E5-490C-4D55-BC46-E6B8C90A5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294E-FA65-48F7-93A2-4FB8A0096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3802-9D3D-4197-A66C-F9D2DEE64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822D-DD03-4CC6-A444-9A20246EF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DC4B-4C3D-40AE-A611-66318B90F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F9CE-F32C-456B-8210-678E32D6E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2855-7439-4EDF-BEA6-A8D0A6B52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C09B-6114-4396-8790-23D75D421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0290-159B-41F5-BD3B-426AFE872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670A-D88B-4364-8433-3B7DBD273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C93A-547E-4AE9-8CED-9B03C6C0A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6967B-3F01-415F-AAA2-4E4A1CC138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pbskids.org/dontbuyit/advertisingtricks/whatsinanad.html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79tMMFja-Fw" TargetMode="External"/><Relationship Id="rId2" Type="http://schemas.openxmlformats.org/officeDocument/2006/relationships/hyperlink" Target="http://www.youtube.com/watch?v=79tMMFja-Fw" TargetMode="External"/><Relationship Id="rId3" Type="http://schemas.openxmlformats.org/officeDocument/2006/relationships/hyperlink" Target="http://www.youtube.com/watch?v=xl0x3LlWIig" TargetMode="External"/><Relationship Id="rId4" Type="http://schemas.openxmlformats.org/officeDocument/2006/relationships/hyperlink" Target="http://www.youtube.com/watch?v=xl0x3LlWIig" TargetMode="External"/><Relationship Id="rId5" Type="http://schemas.openxmlformats.org/officeDocument/2006/relationships/hyperlink" Target="http://www.youtube.com/watch?v=P82iJ8G8qhw" TargetMode="External"/><Relationship Id="rId6" Type="http://schemas.openxmlformats.org/officeDocument/2006/relationships/hyperlink" Target="http://www.youtube.com/watch?v=P82iJ8G8qhw" TargetMode="External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mercials, propaganda, and persua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rs. Botkin’s Core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sider your target audience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les or fema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vel of educ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ior background or experie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nish these jingles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best part of waking up i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________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n your cup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ybe she's born with it. Maybe it'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_________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ive me a break. Give me a break. Break me off a piece of that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__________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would you do for a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__________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ar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ive your breath long lasting freshness with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__________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s of advertise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the purpose of ad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are they effectiv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pbskids.org/dontbuyit/advertisingtricks/whatsinanad.htm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380880" y="380880"/>
            <a:ext cx="822960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ropagand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ersuades the audience to adopt a particular position or belief through emotional responses or belief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y distort reality or “evidence” to make it believabl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ersuas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nvinces the audience to believe a particular point of view using personal, emotional, or moral appe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lends facts and emotion so it relies on opin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rgume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ersuades the audience to accept the truth through reasoning and evid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Uses evidence to discover the trut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by Kruffy"/>
              </a:rPr>
              <a:t>Propaganda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Rectangle 3" descr=""/>
          <p:cNvPicPr/>
          <p:nvPr/>
        </p:nvPicPr>
        <p:blipFill>
          <a:blip r:embed="rId1"/>
          <a:stretch/>
        </p:blipFill>
        <p:spPr>
          <a:xfrm>
            <a:off x="19080" y="1116000"/>
            <a:ext cx="4303800" cy="1133640"/>
          </a:xfrm>
          <a:prstGeom prst="rect">
            <a:avLst/>
          </a:prstGeom>
          <a:ln w="0">
            <a:noFill/>
          </a:ln>
        </p:spPr>
      </p:pic>
      <p:sp>
        <p:nvSpPr>
          <p:cNvPr id="61" name="TextBox 4"/>
          <p:cNvSpPr/>
          <p:nvPr/>
        </p:nvSpPr>
        <p:spPr>
          <a:xfrm>
            <a:off x="5410080" y="289548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Jokewood"/>
              </a:rPr>
              <a:t>Euphemis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5"/>
          <p:cNvSpPr/>
          <p:nvPr/>
        </p:nvSpPr>
        <p:spPr>
          <a:xfrm>
            <a:off x="2057400" y="2438280"/>
            <a:ext cx="2971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Neurochrome"/>
              </a:rPr>
              <a:t>Fea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6"/>
          <p:cNvSpPr/>
          <p:nvPr/>
        </p:nvSpPr>
        <p:spPr>
          <a:xfrm>
            <a:off x="838080" y="5181480"/>
            <a:ext cx="4648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urlz MT"/>
              </a:rPr>
              <a:t>Glittering Generaliti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7"/>
          <p:cNvSpPr/>
          <p:nvPr/>
        </p:nvSpPr>
        <p:spPr>
          <a:xfrm>
            <a:off x="5791320" y="5638680"/>
            <a:ext cx="2819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roobie"/>
              </a:rPr>
              <a:t>Bad Log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8"/>
          <p:cNvSpPr/>
          <p:nvPr/>
        </p:nvSpPr>
        <p:spPr>
          <a:xfrm>
            <a:off x="5562720" y="1523880"/>
            <a:ext cx="281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lain Folk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9"/>
          <p:cNvSpPr/>
          <p:nvPr/>
        </p:nvSpPr>
        <p:spPr>
          <a:xfrm>
            <a:off x="5638680" y="4114800"/>
            <a:ext cx="2819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Fiolex Girls"/>
              </a:rPr>
              <a:t>Testimon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10"/>
          <p:cNvSpPr/>
          <p:nvPr/>
        </p:nvSpPr>
        <p:spPr>
          <a:xfrm>
            <a:off x="304920" y="3886200"/>
            <a:ext cx="2819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hick"/>
              </a:rPr>
              <a:t>Transfer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11"/>
          <p:cNvSpPr/>
          <p:nvPr/>
        </p:nvSpPr>
        <p:spPr>
          <a:xfrm>
            <a:off x="4038480" y="3429000"/>
            <a:ext cx="91440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 Condensed"/>
              </a:rPr>
              <a:t>Repeti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 Condensed"/>
              </a:rPr>
              <a:t>Repeti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 Condensed"/>
              </a:rPr>
              <a:t>Repeti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 Condensed"/>
              </a:rPr>
              <a:t>Repeti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 Condensed"/>
              </a:rPr>
              <a:t>Repeti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an you spot the propaganda techniques used in these commercials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3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youtube.com/watch?v=79tMMFja-Fw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</a:t>
            </a:r>
            <a:r>
              <a:rPr b="0" lang="en-US" sz="30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youtube.com/watch?v=xl0x3LlWIi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http://</a:t>
            </a:r>
            <a:r>
              <a:rPr b="0" lang="en-US" sz="30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youtube.com/watch?v=P82iJ8G8qhw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http://www.youtube.com/watch?v=MDUQW8LUMs8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http://www.youtube.com/watch?v=jhOqikF9cic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http://www.progressive.com/commercials/progressive-commercials.aspx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sider your task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a one minute commercial that informs the audience about your group’s poet and persuades them to vote for him/her as the most influential poet of the 2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entur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cus on your argument (based on the truth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e persuasi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es, you will be biased, but you cannot give false evid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2T01:37:14Z</dcterms:created>
  <dc:creator> </dc:creator>
  <dc:description/>
  <dc:language>en-US</dc:language>
  <cp:lastModifiedBy> </cp:lastModifiedBy>
  <dcterms:modified xsi:type="dcterms:W3CDTF">2010-02-10T11:39:41Z</dcterms:modified>
  <cp:revision>13</cp:revision>
  <dc:subject/>
  <dc:title>Commercials, propaganda, and persuasion</dc:title>
</cp:coreProperties>
</file>