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A44-8C48-4D46-AB94-433581A5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A8C-B7D1-40F3-9859-C7A79B84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EAC-4424-4835-95C4-918F7B2A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93F-8BEC-4532-AD05-C19D6C23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63E-BE29-4F3A-AA52-11D68FDE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739-3C6C-4D21-B54B-6743C17E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049-081D-4C77-AFF4-E60D8665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A99-2DF7-4C36-B58E-09EBC445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F97-31C9-49E1-98AD-2A4AD9E8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D8C-0002-4A66-8AC8-527C340A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A60-B27A-4CFD-88B4-996876C7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1C5-758A-4BA2-816D-BDBD31C2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0EC1-B888-4D38-BF99-7CA9F8CF8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712educators.about.com/cs/ssgeography/ht/htlatlong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hosted/life/f?q=pollution+source:life&amp;prev=/images%3Fq%3Dpollution%2Bsource:life%26hl%3Den&amp;imgurl=1097f83c77a8c29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712educators.about.com/cs/ssgeography/index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Themes of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6324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Botkin and Mrs.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: Where are things located? A location can be absolute (for example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atitude and longitud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or a street address) or relative (for example, explained by identifying landmarks, direction, or distance between places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: Characteristics that define a place and explains what makes it different from other places. These differences can take many forms including physical or cultural differenc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913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Environment Interaction: This theme explains how humans and the environment interact with each other. Humans adapt and change the environment while depending upon i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ographer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divide the earth into regions making it easier to study. Regions are defined in many ways including area, vegetation, political divisions, etc.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: People, items, and ideas (mass communication) move and help shape the worl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3:50:18Z</dcterms:created>
  <dc:creator>admin</dc:creator>
  <dc:description/>
  <dc:language>en-US</dc:language>
  <cp:lastModifiedBy>admin</cp:lastModifiedBy>
  <dcterms:modified xsi:type="dcterms:W3CDTF">2009-09-02T14:03:03Z</dcterms:modified>
  <cp:revision>2</cp:revision>
  <dc:subject/>
  <dc:title>5 Themes of Geography</dc:title>
</cp:coreProperties>
</file>