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909-AD38-4ACB-9FD6-67E6F501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2E6-127A-4A7D-9705-C942D31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BA7-3B1C-4E0E-87CB-ED57909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FC9-21A8-4E5D-AA62-9A256D02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B35-F479-4EEE-BD37-33BB632B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12A-8DD9-4731-BEDD-BD9641EB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158-7440-4986-B5FA-4066057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AEB-9F3A-42A4-8BA7-69EBE07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550-51B1-4784-B16D-69127845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C42-BD35-4276-98BA-A317201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6BC-3256-4D4C-A1DB-C74083C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6F6-CC6E-4CCB-B2E0-C64EE3C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085-011B-4C3F-97D3-9BF118A4D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712educators.about.com/cs/ssgeography/ht/htlatlong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pollution+source:life&amp;prev=/images%3Fq%3Dpollution%2Bsource:life%26hl%3Den&amp;imgurl=1097f83c77a8c29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712educators.about.com/cs/ssgeography/index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Botkin and Mrs.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Where are things located? A location can be absolute (for exampl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titude and longitu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r a street address) or relative (for example, explained by identifying landmarks, direction, or distance between place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: Characteristics that define a place and explains what makes it different from other places. These differences can take many forms including physical or cultural differen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nvironment Interaction: This theme explains how humans and the environment interact with each other. Humans adapt and change the environment while depending upon i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graph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ivide the earth into regions making it easier to study. Regions are defined in many ways including area, vegetation, political divisions, etc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: People, items, and ideas (mass communication) move and help shape the worl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50:18Z</dcterms:created>
  <dc:creator>admin</dc:creator>
  <dc:description/>
  <dc:language>en-US</dc:language>
  <cp:lastModifiedBy>admin</cp:lastModifiedBy>
  <dcterms:modified xsi:type="dcterms:W3CDTF">2009-09-02T14:03:03Z</dcterms:modified>
  <cp:revision>2</cp:revision>
  <dc:subject/>
  <dc:title>5 Themes of Geography</dc:title>
</cp:coreProperties>
</file>