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AF6-3673-4C89-B1DE-CD13C34A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F4D9-643A-4C12-816A-20EC512F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ECA2-04C5-4E4C-B3B7-771D855D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00A-8E02-4398-9C82-E56C604C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BD0-FEE8-407D-B316-5ACEA466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8281-DD80-4E74-8381-261AA2AA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B084-F091-4CF4-8118-7997CB3E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784-2920-417A-B5F6-8CBFCE0F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509-2950-42C7-86B6-2C2EE469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B72-3FF7-4EA7-A33F-78C8CE5C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FFB-E251-4D3E-BC4B-C982EB04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DE92-164B-432B-8B72-A6802A7E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2871-1133-4087-8458-2065D77E2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712educators.about.com/cs/ssgeography/ht/htlatlong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hosted/life/f?q=pollution+source:life&amp;prev=/images%3Fq%3Dpollution%2Bsource:life%26hl%3Den&amp;imgurl=1097f83c77a8c29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712educators.about.com/cs/ssgeography/index.ht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 Themes of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6324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 Botkin and Mrs. Szaka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: Where are things located? A location can be absolute (for example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atitude and longitud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or a street address) or relative (for example, explained by identifying landmarks, direction, or distance between places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3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: Characteristics that define a place and explains what makes it different from other places. These differences can take many forms including physical or cultural differenc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913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Environment Interaction: This theme explains how humans and the environment interact with each other. Humans adapt and change the environment while depending upon i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ographer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divide the earth into regions making it easier to study. Regions are defined in many ways including area, vegetation, political divisions, etc.</a:t>
            </a:r>
            <a:br>
              <a:rPr sz="3200"/>
            </a:b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: People, items, and ideas (mass communication) move and help shape the world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3:50:18Z</dcterms:created>
  <dc:creator>admin</dc:creator>
  <dc:description/>
  <dc:language>en-US</dc:language>
  <cp:lastModifiedBy>admin</cp:lastModifiedBy>
  <dcterms:modified xsi:type="dcterms:W3CDTF">2009-09-02T14:03:03Z</dcterms:modified>
  <cp:revision>2</cp:revision>
  <dc:subject/>
  <dc:title>5 Themes of Geography</dc:title>
</cp:coreProperties>
</file>