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0D48A-0050-4942-BEE0-05C39DEF4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DE87B-C972-4787-8FE7-7D64E3906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7C910-005D-42BB-9080-88528C80D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5868E-BB4C-440C-9D58-AC945B5A6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E5684-3C9F-4347-9F65-3960847E8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B4D66-D926-4FEE-989F-032C550F4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8D7D9-7BC9-4629-8B20-3E4BBF094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D02B1-CA02-4863-BF81-E250DABDD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23C6A-FC4E-460A-9053-AF70F5E94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C1040-BC9F-4693-BD9E-3454FA027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2B090-9C5A-4911-B9E4-9EC9C300B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9E14C-BC46-4E55-8F30-52B827ACD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45240-9423-44CF-A20C-E2AFEE15A5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712educators.about.com/cs/ssgeography/ht/htlatlong.htm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google.com/hosted/life/f?q=pollution+source:life&amp;prev=/images%3Fq%3Dpollution%2Bsource:life%26hl%3Den&amp;imgurl=1097f83c77a8c291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712educators.about.com/cs/ssgeography/index.htm" TargetMode="External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143000" y="0"/>
            <a:ext cx="6858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5 Themes of Geograph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632448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rs. Botkin and Mrs. Szakas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cation: Where are things located? A location can be absolute (for example,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latitude and longitude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 or a street address) or relative (for example, explained by identifying landmarks, direction, or distance between places)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2387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3520" y="251460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lace: Characteristics that define a place and explains what makes it different from other places. These differences can take many forms including physical or cultural differences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59133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880" y="4266720"/>
            <a:ext cx="822960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uman Environment Interaction: This theme explains how humans and the environment interact with each other. Humans adapt and change the environment while depending upon it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gion: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Geographers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 divide the earth into regions making it easier to study. Regions are defined in many ways including area, vegetation, political divisions, etc.</a:t>
            </a:r>
            <a:br>
              <a:rPr sz="3200"/>
            </a:b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56424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vement: People, items, and ideas (mass communication) move and help shape the world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2T13:50:18Z</dcterms:created>
  <dc:creator>admin</dc:creator>
  <dc:description/>
  <dc:language>en-US</dc:language>
  <cp:lastModifiedBy>admin</cp:lastModifiedBy>
  <dcterms:modified xsi:type="dcterms:W3CDTF">2009-09-02T14:03:03Z</dcterms:modified>
  <cp:revision>2</cp:revision>
  <dc:subject/>
  <dc:title>5 Themes of Geography</dc:title>
</cp:coreProperties>
</file>