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CD5C9-400C-4029-BDB8-C1D91CD5D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782A8-EDBC-434B-9A10-42E1190D8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73077-07E0-4A96-A0FA-7F92144F2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955A1-BF0C-47C2-B797-989928B24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A541F-A08B-4204-84DD-6B73007FD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F531E-7647-41AE-82A2-27432269C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29296-A781-4DA9-BE7B-26877A9D9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A67D5-919C-4F4C-A63B-778537AFA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F4E3A-2371-4840-96D8-25BE11B27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8B55-A638-4921-BAE1-39ABD46BB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435B-D07B-48BC-AE73-E294139F6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5BFE1-2648-4D64-AF87-387954C99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0554-66DA-4EDD-8604-72DF0F3CC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14264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chool Days at Topsail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2578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rs. Botkin and Mrs. Szakasits</a:t>
            </a:r>
            <a:endParaRPr b="0" lang="en-US" sz="3200" spc="-1" strike="noStrike">
              <a:solidFill>
                <a:srgbClr val="000000"/>
              </a:solidFill>
              <a:latin typeface="Arial"/>
            </a:endParaRPr>
          </a:p>
        </p:txBody>
      </p:sp>
      <p:pic>
        <p:nvPicPr>
          <p:cNvPr id="43" name="" descr=""/>
          <p:cNvPicPr/>
          <p:nvPr/>
        </p:nvPicPr>
        <p:blipFill>
          <a:blip r:embed="rId1"/>
          <a:stretch/>
        </p:blipFill>
        <p:spPr>
          <a:xfrm>
            <a:off x="2971800" y="2819520"/>
            <a:ext cx="3124080" cy="20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sail Middle School is located at 17445 US Hwy 17 in Hampstead, NC. This year is our first in this building as the school moved into the former Topsail High Sch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rock” was a defining characteristic of Topsail High School. After consultation with several companies, it was determined that the rock cannot be moved to the new THS building. Its ownership remains cause for deb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04920" y="2971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Container Recycling Institute, more than 60 million plastic water bottles are thrown away each day in the US, and yet, TMS currently does not have a recycling pro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295280" y="3808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grade level has its own region of TMS to wait and socialize in before school. Supervision in these areas begins at 7:50 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59436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can be difficult to transition from one class to the next and arrive on time, especially with locker trips. Time management will be important in middle schoo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
          <p:cNvSpPr/>
          <p:nvPr/>
        </p:nvSpPr>
        <p:spPr>
          <a:xfrm>
            <a:off x="380880" y="1371600"/>
            <a:ext cx="8534520" cy="314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year will be filled with excitement and growth as we complete the transition into our new building. These are exciting times for Topsail Middle School’s students as they adjust to life in a new school, develop school spirit, become active student body members, make new friends, and learn many things. Who wouldn’t want to be a pir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26:49Z</dcterms:created>
  <dc:creator>admin</dc:creator>
  <dc:description/>
  <dc:language>en-US</dc:language>
  <cp:lastModifiedBy>admin</cp:lastModifiedBy>
  <dcterms:modified xsi:type="dcterms:W3CDTF">2009-09-04T13:06:23Z</dcterms:modified>
  <cp:revision>3</cp:revision>
  <dc:subject/>
  <dc:title>School Days at Topsail Middle School</dc:title>
</cp:coreProperties>
</file>