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302-3444-41EA-BFB5-01A4B165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C68-F636-48BD-AED9-2A5B9531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2AF-266F-43FA-8C9A-3094F3C1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967-8601-4D3E-A15F-9E83222B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4EE-1128-4AAD-8F46-B840054C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57B-F2BF-4083-9862-C9CD98A5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49F-BD94-4878-B388-47400019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0CB-A073-4ED5-BD15-7349C599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AF1-BF4E-486B-A3E3-FA1B1863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688-4AA1-4526-8E6B-0BF57FB9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BF3-7187-4233-ACF9-A1C53B83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66B-6DC6-4840-88F6-DABCE11D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FE75-BDEB-448E-885A-7B8A88FAA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a3190"/>
                </a:solidFill>
                <a:latin typeface="Verdana"/>
              </a:rPr>
              <a:t>Paraphrasing Pract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0600" y="5181480"/>
            <a:ext cx="47628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utomobile is chartre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Preparations for the ceremony were elabo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educator removed the unruly student from the enviro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Several diffident individuals banded together to comprise a consort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dolescent maneuvered the bi-wheeled vehicle undamag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In the metropolis the recreational area was dilapid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7:53:16Z</dcterms:created>
  <dc:creator>tengrrl</dc:creator>
  <dc:description/>
  <dc:language>en-US</dc:language>
  <cp:lastModifiedBy>tengrrl</cp:lastModifiedBy>
  <dcterms:modified xsi:type="dcterms:W3CDTF">2007-03-30T18:20:40Z</dcterms:modified>
  <cp:revision>5</cp:revision>
  <dc:subject/>
  <dc:title>Paraphrasing Practice</dc:title>
</cp:coreProperties>
</file>