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0AB-CEC5-4AF2-BA44-736B76B8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399-FF75-4E74-9127-0FA302C3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706-CD16-49A5-9090-07DF303F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89B-C79C-4362-9211-B9A62469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2E3-D056-4F38-B398-59234C3B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D30-10E4-40C5-8F82-F51BE6E2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DFE-2013-4221-80A0-41ACA3E7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F9-F012-4DBF-AF92-4C67BB3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F83-E33E-4A09-B173-8BD4FA69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6C4-290F-4357-A144-8047D4E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3F0-93B0-4ECC-8A1F-26078EAB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89E-9431-4E37-B729-C13F305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361-6CDF-4E3D-8EC7-39E01DAC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a3190"/>
                </a:solidFill>
                <a:latin typeface="Verdana"/>
              </a:rPr>
              <a:t>Paraphrasing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0600" y="5181480"/>
            <a:ext cx="4762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utomobile is chartre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Preparations for the ceremony were elabo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educator removed the unruly student from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Several diffident individuals banded together to comprise a consort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The adolescent maneuvered the bi-wheeled vehicle undama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3190"/>
                </a:solidFill>
                <a:latin typeface="Verdana"/>
              </a:rPr>
              <a:t>In the metropolis the recreational area was dilapid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tengrrl</dc:creator>
  <dc:description/>
  <dc:language>en-US</dc:language>
  <cp:lastModifiedBy>tengrrl</cp:lastModifiedBy>
  <dcterms:modified xsi:type="dcterms:W3CDTF">2007-03-30T18:20:40Z</dcterms:modified>
  <cp:revision>5</cp:revision>
  <dc:subject/>
  <dc:title>Paraphrasing Practice</dc:title>
</cp:coreProperties>
</file>