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0607-32C7-4ACC-833B-6DDEF986D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ument is the only one based on using evidence to discover the tru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B5E1-5D53-42BF-83ED-15C2B21C0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CCE-8EAD-47EB-ABC2-63384A5E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4CD-F8C7-42C9-B47D-E107B503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41E-BF06-467A-9CCB-FF82E06F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584-4968-4BA9-BF54-6CEB95F1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5BE-7608-410C-9DA7-D82BEF20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687-C2E5-4926-A8C8-336AA8ED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020-78C7-41EA-98A6-9EAAD975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8BF-91A0-4FF1-9093-4F0F6FA2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926-160A-4046-9B9C-7E83B399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592-9968-4B51-85B6-8C78B3BA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665-2140-4EB7-BF35-8098EF14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95A-1483-41AB-AA68-2DADF4C0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AAB2-CE97-4697-8101-BF8485C00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bskids.org/dontbuyit/advertisingtricks/whatsinanad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9tMMFja-Fw" TargetMode="External"/><Relationship Id="rId2" Type="http://schemas.openxmlformats.org/officeDocument/2006/relationships/hyperlink" Target="http://www.youtube.com/watch?v=79tMMFja-Fw" TargetMode="External"/><Relationship Id="rId3" Type="http://schemas.openxmlformats.org/officeDocument/2006/relationships/hyperlink" Target="http://www.youtube.com/watch?v=xl0x3LlWIig" TargetMode="External"/><Relationship Id="rId4" Type="http://schemas.openxmlformats.org/officeDocument/2006/relationships/hyperlink" Target="http://www.youtube.com/watch?v=xl0x3LlWIig" TargetMode="External"/><Relationship Id="rId5" Type="http://schemas.openxmlformats.org/officeDocument/2006/relationships/hyperlink" Target="http://www.youtube.com/watch?v=P82iJ8G8qhw" TargetMode="External"/><Relationship Id="rId6" Type="http://schemas.openxmlformats.org/officeDocument/2006/relationships/hyperlink" Target="http://www.youtube.com/watch?v=P82iJ8G8qhw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s, propaganda, and persua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Botkin’s Cor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rget audienc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es or fe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of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background or expe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 these jingl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part of waking up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c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she's born with it. Maybe it'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e a break. Give me a break. Break me off a piece of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you do for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your breath long lasting freshnes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advertis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urpose of a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re they effe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bskids.org/dontbuyit/advertisingtricks/whatsinanad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ag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dopt a particular position or belief through emotional responses or belief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distort reality or “evidence” to make it believab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ua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vinces the audience to believe a particular point of view using personal, emotional, or moral appe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ends facts and emotion so it relies on opin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gu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ccept the truth through reasoning and evi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s evidence to discover the tru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by Kruffy"/>
              </a:rPr>
              <a:t>Propaganda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19080" y="1116000"/>
            <a:ext cx="4303800" cy="1133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410080" y="2895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okewood"/>
              </a:rPr>
              <a:t>Euphem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057400" y="24382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eurochrome"/>
              </a:rPr>
              <a:t>Fe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838080" y="5181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Glittering Genera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791320" y="56386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roobie"/>
              </a:rPr>
              <a:t>Bad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562720" y="1523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in Fol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638680" y="41148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iolex Girls"/>
              </a:rPr>
              <a:t>Testimon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304920" y="388620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ck"/>
              </a:rPr>
              <a:t>Transf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4038480" y="3429000"/>
            <a:ext cx="914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you spot the propaganda techniques used in these commercial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79tMMFja-F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xl0x3LlWI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youtube.com/watch?v=P82iJ8G8qh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MDUQW8LUMs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jhOqikF9c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progressive.com/commercials/progressive-commercials.asp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sk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one minute commercial that informs the audience about your group’s poet and persuades them to vote for him/her as the most influential poet of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your argument (based on the tr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persua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s, you will be biased, but you cannot give fals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1:37:14Z</dcterms:created>
  <dc:creator> </dc:creator>
  <dc:description/>
  <dc:language>en-US</dc:language>
  <cp:lastModifiedBy> </cp:lastModifiedBy>
  <dcterms:modified xsi:type="dcterms:W3CDTF">2010-02-10T11:39:41Z</dcterms:modified>
  <cp:revision>13</cp:revision>
  <dc:subject/>
  <dc:title>Commercials, propaganda, and persuasion</dc:title>
</cp:coreProperties>
</file>