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D30-C9D6-4A49-AEE3-C32105438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ument is the only one based on using evidence to discover the tru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095-599E-4380-8F7A-6C92780D2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381-9D44-45CB-9EC7-D86031D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A8F-1393-4B04-8C73-4070E43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BC4-0492-4E36-92F2-EF6F3E99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632-3B38-4DC8-8A7C-E214DF47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7A2-F2F6-4FFC-98DE-D60EAF7B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63F-0E40-46CA-A67D-8D09A05E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245-9904-4245-A7AE-3DF5CA9E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A8D-8C34-4D42-9394-5841457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AA3-AE92-4230-ACE4-0B73F16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527-8B45-4150-ABFF-55DB02D9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D83-6176-44D1-961F-1CEC348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374-B5A6-4F84-BEBF-B036ADA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58D4-F2DF-4BC4-BD90-706C1E164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bskids.org/dontbuyit/advertisingtricks/whatsinanad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9tMMFja-Fw" TargetMode="External"/><Relationship Id="rId2" Type="http://schemas.openxmlformats.org/officeDocument/2006/relationships/hyperlink" Target="http://www.youtube.com/watch?v=79tMMFja-Fw" TargetMode="External"/><Relationship Id="rId3" Type="http://schemas.openxmlformats.org/officeDocument/2006/relationships/hyperlink" Target="http://www.youtube.com/watch?v=xl0x3LlWIig" TargetMode="External"/><Relationship Id="rId4" Type="http://schemas.openxmlformats.org/officeDocument/2006/relationships/hyperlink" Target="http://www.youtube.com/watch?v=xl0x3LlWIig" TargetMode="External"/><Relationship Id="rId5" Type="http://schemas.openxmlformats.org/officeDocument/2006/relationships/hyperlink" Target="http://www.youtube.com/watch?v=P82iJ8G8qhw" TargetMode="External"/><Relationship Id="rId6" Type="http://schemas.openxmlformats.org/officeDocument/2006/relationships/hyperlink" Target="http://www.youtube.com/watch?v=P82iJ8G8qhw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s, propaganda, and persua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Botkin’s Cor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rget audienc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s or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background or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these jingl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part of waking up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c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she's born with it. Maybe it'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e a break. Give me a break. Break me off a piece of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for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your breath long lasting freshnes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advertis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 of a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re they effe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bskids.org/dontbuyit/advertisingtricks/whatsinanad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dopt a particular position or belief through emotional responses or belief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distort reality or “evidence” to make it believ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u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vinces the audience to believe a particular point of view using personal, emotional, or moral app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ends facts and emotion so it relies on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gu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suades the audience to accept the truth through reasoning and ev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s evidence to discover the tru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by Kruffy"/>
              </a:rPr>
              <a:t>Propaganda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19080" y="1116000"/>
            <a:ext cx="430380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410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okewood"/>
              </a:rPr>
              <a:t>Euphem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7400" y="24382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urochrome"/>
              </a:rPr>
              <a:t>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38080" y="5181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Glittering Genera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791320" y="56386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roobie"/>
              </a:rPr>
              <a:t>Bad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562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in Fol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638680" y="41148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iolex Girls"/>
              </a:rPr>
              <a:t>Testimon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4920" y="388620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ck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038480" y="3429000"/>
            <a:ext cx="914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Condensed"/>
              </a:rPr>
              <a:t>Repet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spot the propaganda techniques used in these commercia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79tMMFja-F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l0x3LlWIi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P82iJ8G8qh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MDUQW8LUMs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OqikF9c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progressive.com/commercials/progressive-commercials.asp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 your tas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 minute commercial that informs the audience about your group’s poet and persuades them to vote for him/her as the most influential poet of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your argument (based on the tr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persua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, you will be biased, but you cannot give fals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1:37:14Z</dcterms:created>
  <dc:creator> </dc:creator>
  <dc:description/>
  <dc:language>en-US</dc:language>
  <cp:lastModifiedBy> </cp:lastModifiedBy>
  <dcterms:modified xsi:type="dcterms:W3CDTF">2010-02-10T11:39:41Z</dcterms:modified>
  <cp:revision>13</cp:revision>
  <dc:subject/>
  <dc:title>Commercials, propaganda, and persuasion</dc:title>
</cp:coreProperties>
</file>