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EF1E-E34C-44E7-85C8-02A23ADFEF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gument is the only one based on using evidence to discover the trut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AEE3-B0CC-4EB6-951A-B40723A128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9A0B-B2F5-4F6D-9D5F-B9E2222B1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CD7B-BFFC-4721-9248-68E01AF6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1E63-83B0-4935-9F71-5BE8A8E8A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FB1D-A82A-42C0-9293-D8D6C786E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3B1C-6AEC-482E-B76D-F61F0FBE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5DA3-37F3-4996-BA73-E2B8E2ED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1902-B672-433B-A558-611470DF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39D5-C730-4585-8D30-7E4B0C8F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96AE-D811-4970-9B3B-EF5CE71E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6D6F-7B14-4379-AAA4-20F94042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B25B-E5B8-441A-9359-CB66246E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E6B1-5A60-42B5-9951-5B8DB162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839F-55C9-4572-B844-0F804B2E16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bskids.org/dontbuyit/advertisingtricks/whatsinanad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79tMMFja-Fw" TargetMode="External"/><Relationship Id="rId2" Type="http://schemas.openxmlformats.org/officeDocument/2006/relationships/hyperlink" Target="http://www.youtube.com/watch?v=79tMMFja-Fw" TargetMode="External"/><Relationship Id="rId3" Type="http://schemas.openxmlformats.org/officeDocument/2006/relationships/hyperlink" Target="http://www.youtube.com/watch?v=xl0x3LlWIig" TargetMode="External"/><Relationship Id="rId4" Type="http://schemas.openxmlformats.org/officeDocument/2006/relationships/hyperlink" Target="http://www.youtube.com/watch?v=xl0x3LlWIig" TargetMode="External"/><Relationship Id="rId5" Type="http://schemas.openxmlformats.org/officeDocument/2006/relationships/hyperlink" Target="http://www.youtube.com/watch?v=P82iJ8G8qhw" TargetMode="External"/><Relationship Id="rId6" Type="http://schemas.openxmlformats.org/officeDocument/2006/relationships/hyperlink" Target="http://www.youtube.com/watch?v=P82iJ8G8qhw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ercials, propaganda, and persua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rs. Botkin’s Cor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ider your target audience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les or fem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of 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or background or experi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ish these jingles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est part of waking up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your cup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be she's born with it. Maybe it'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me a break. Give me a break. Break me off a piece of tha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ould you do for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a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your breath long lasting freshness wit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advertis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the purpose of ad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are they effecti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pbskids.org/dontbuyit/advertisingtricks/whatsinanad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8088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paga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suades the audience to adopt a particular position or belief through emotional responses or belief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y distort reality or “evidence” to make it believabl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ersua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vinces the audience to believe a particular point of view using personal, emotional, or moral appe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lends facts and emotion so it relies on opin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gu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suades the audience to accept the truth through reasoning and evid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s evidence to discover the trut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by Kruffy"/>
              </a:rPr>
              <a:t>Propaganda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Rectangle 3" descr=""/>
          <p:cNvPicPr/>
          <p:nvPr/>
        </p:nvPicPr>
        <p:blipFill>
          <a:blip r:embed="rId1"/>
          <a:stretch/>
        </p:blipFill>
        <p:spPr>
          <a:xfrm>
            <a:off x="19080" y="1116000"/>
            <a:ext cx="4303800" cy="113364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5410080" y="28954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okewood"/>
              </a:rPr>
              <a:t>Euphemis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2057400" y="243828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Neurochrome"/>
              </a:rPr>
              <a:t>Fea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838080" y="518148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Glittering General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5791320" y="563868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roobie"/>
              </a:rPr>
              <a:t>Bad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5562720" y="15238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in Fol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5638680" y="4114800"/>
            <a:ext cx="281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iolex Girls"/>
              </a:rPr>
              <a:t>Testimon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304920" y="3886200"/>
            <a:ext cx="281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ck"/>
              </a:rPr>
              <a:t>Transf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1"/>
          <p:cNvSpPr/>
          <p:nvPr/>
        </p:nvSpPr>
        <p:spPr>
          <a:xfrm>
            <a:off x="4038480" y="3429000"/>
            <a:ext cx="9144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n you spot the propaganda techniques used in these commercial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youtube.com/watch?v=79tMMFja-F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youtube.com/watch?v=xl0x3LlWIi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youtube.com/watch?v=P82iJ8G8qh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www.youtube.com/watch?v=MDUQW8LUMs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www.youtube.com/watch?v=jhOqikF9c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www.progressive.com/commercials/progressive-commercials.asp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ider your task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one minute commercial that informs the audience about your group’s poet and persuades them to vote for him/her as the most influential poet of the 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entu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 on your argument (based on the trut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 persuas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es, you will be biased, but you cannot give false evi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01:37:14Z</dcterms:created>
  <dc:creator> </dc:creator>
  <dc:description/>
  <dc:language>en-US</dc:language>
  <cp:lastModifiedBy> </cp:lastModifiedBy>
  <dcterms:modified xsi:type="dcterms:W3CDTF">2010-02-10T11:39:41Z</dcterms:modified>
  <cp:revision>13</cp:revision>
  <dc:subject/>
  <dc:title>Commercials, propaganda, and persuasion</dc:title>
</cp:coreProperties>
</file>