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03EA-1A73-43A2-864C-AC6D96522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FF10-059D-4F92-ADED-1EF635CC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2B83-FD2E-4EC1-A308-585532646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5EA8-A30F-437C-8BC7-761A25529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F4FA-55B4-43B1-B533-7AF71E242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C95E-216D-4482-88B8-E11392666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2A23-3AF2-4C6D-B727-B7005A8C1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9D82-3A08-4F24-9C20-4D54ACE49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7540-AA3D-4EE1-AF84-0BC2A85F9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836E-A72E-43EE-A764-A4F03DFC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5FCE-DBC4-479E-ACC8-FB6262BA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BF76-A1C7-4086-A205-36C5161E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D2B3C-B87F-41E7-BE81-670CB8ECE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712educators.about.com/cs/ssgeography/ht/htlatlong.htm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hosted/life/f?q=pollution+source:life&amp;prev=/images%3Fq%3Dpollution%2Bsource:life%26hl%3Den&amp;imgurl=1097f83c77a8c29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712educators.about.com/cs/ssgeography/index.htm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5 Themes of Ge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63244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rs. Botkin and Mrs. Szakas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ation: Where are things located? A location can be absolute (for example,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latitude and longitude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or a street address) or relative (for example, explained by identifying landmarks, direction, or distance between places)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2387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25146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ce: Characteristics that define a place and explains what makes it different from other places. These differences can take many forms including physical or cultural differences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59133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426672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man Environment Interaction: This theme explains how humans and the environment interact with each other. Humans adapt and change the environment while depending upon it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ion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Geographers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divide the earth into regions making it easier to study. Regions are defined in many ways including area, vegetation, political divisions, etc.</a:t>
            </a:r>
            <a:br>
              <a:rPr sz="3200"/>
            </a:b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64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ment: People, items, and ideas (mass communication) move and help shape the world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13:50:18Z</dcterms:created>
  <dc:creator>admin</dc:creator>
  <dc:description/>
  <dc:language>en-US</dc:language>
  <cp:lastModifiedBy>admin</cp:lastModifiedBy>
  <dcterms:modified xsi:type="dcterms:W3CDTF">2009-09-02T14:03:03Z</dcterms:modified>
  <cp:revision>2</cp:revision>
  <dc:subject/>
  <dc:title>5 Themes of Geography</dc:title>
</cp:coreProperties>
</file>